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7CE-8C10-498F-9852-3C8FF03C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270E-9B1A-4AB7-8719-326C2CDB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A68-4C0D-4DCD-AE51-EB561172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333-A809-4C25-BDC7-7CBA1EA1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EAA5-BC12-4626-B9B5-D8CD1F2D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251C-A973-459B-BB06-0B4FEA92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75B8-75AE-4646-A028-75B27B12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0816-73A1-491E-AC77-59B886E8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516A-2CD4-4915-9FCD-624A23FC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3D0B-A006-4DF5-AAC6-8F18F970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22C3-B82D-43B9-AEF9-93D71AFF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534-7CFC-4D26-80F2-42131F62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6A7F-AEE5-45AD-A174-96BAA96A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F9CA-D3C9-4C13-AE73-DEC15F9F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7F64-4170-48B7-BD4B-63148C54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5EF3-1FAA-468C-8B11-55068A36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A32E-EB40-4BB4-9391-4873FF87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F7C-FC13-4A35-97D6-BA97A9BC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931-F0AE-430B-87FB-5FC0D6F3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80E-AA06-441D-999A-07C27672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4C5-9546-489D-BCDB-EB530CF0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19C-12F7-4320-99D5-25E40F0C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511-30C8-4898-B690-9A7FBC1E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F38-AD27-4185-B9CF-0CC53FB6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B0EE-3934-4B96-895C-5466ADEFA3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9CFA-F214-4617-A557-54A31141641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One%20Dark%20Night.htm" TargetMode="External"/><Relationship Id="rId2" Type="http://schemas.openxmlformats.org/officeDocument/2006/relationships/hyperlink" Target="http://www.scottsboro.org/~flewis/SF%20Reading%20Street/spellmaster/One%20Dark%20Night/jigword2.html" TargetMode="External"/><Relationship Id="rId3" Type="http://schemas.openxmlformats.org/officeDocument/2006/relationships/hyperlink" Target="http://www.scottsboro.org/~flewis/SF%20Reading%20Street/spellmaster/One%20Dark%20Night/matchword2.html" TargetMode="External"/><Relationship Id="rId4" Type="http://schemas.openxmlformats.org/officeDocument/2006/relationships/hyperlink" Target="http://www.scottsboro.org/~flewis/SF%20Reading%20Street/spellmaster/One%20Dark%20Night/speedword2.html" TargetMode="External"/><Relationship Id="rId5" Type="http://schemas.openxmlformats.org/officeDocument/2006/relationships/hyperlink" Target="http://www.scottsboro.org/~flewis/SF%20Reading%20Street/spellmaster/One%20Dark%20Night/wordsearch2.html" TargetMode="External"/><Relationship Id="rId6" Type="http://schemas.openxmlformats.org/officeDocument/2006/relationships/hyperlink" Target="http://www.scottsboro.org/~flewis/SF%20Reading%20Street/spellmaster/One%20Dark%20Night/wordweb.html" TargetMode="External"/><Relationship Id="rId7" Type="http://schemas.openxmlformats.org/officeDocument/2006/relationships/hyperlink" Target="http://www.spellingcity.com/index.php?option=com_spellcity&amp;task=viewList&amp;listId=825620" TargetMode="External"/><Relationship Id="rId8" Type="http://schemas.openxmlformats.org/officeDocument/2006/relationships/hyperlink" Target="http://www.spellingcity.com/index.php?option=com_spellcity&amp;task=viewList&amp;listId=825639" TargetMode="External"/><Relationship Id="rId9" Type="http://schemas.openxmlformats.org/officeDocument/2006/relationships/hyperlink" Target="http://www.scottsboro.org/~flewis/SF%20Reading%20Street/spellmaster/One%20Dark%20Night%20Spelling%20Words/speedword2.html" TargetMode="External"/><Relationship Id="rId10" Type="http://schemas.openxmlformats.org/officeDocument/2006/relationships/hyperlink" Target="http://www.scottsboro.org/~flewis/SF%20Reading%20Street/spellmaster/One%20Dark%20Night%20Spelling%20Words/wordweb.html" TargetMode="External"/><Relationship Id="rId11" Type="http://schemas.openxmlformats.org/officeDocument/2006/relationships/hyperlink" Target="http://www.quia.com/jg/1136615.html" TargetMode="External"/><Relationship Id="rId12" Type="http://schemas.openxmlformats.org/officeDocument/2006/relationships/hyperlink" Target="http://www.spellingcity.com/index.php?option=com_spellcity&amp;Itemid=122&amp;task=viewList&amp;listId=354279" TargetMode="External"/><Relationship Id="rId13" Type="http://schemas.openxmlformats.org/officeDocument/2006/relationships/hyperlink" Target="http://www.spellingcity.com/index.php?option=com_spellcity&amp;task=viewList&amp;listId=825625" TargetMode="External"/><Relationship Id="rId14" Type="http://schemas.openxmlformats.org/officeDocument/2006/relationships/hyperlink" Target="http://www.spellingcity.com/index.php?option=com_spellcity&amp;task=viewList&amp;listId=825625" TargetMode="External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60.xml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hyperlink" Target="http://images.google.com/imgres?imgurl=http://www.kristianstad.se/upload/Sprak/bilder/pellets%25202.jpg&amp;imgrefurl=http://www.kristianstad.se/sv/Kristianstads-kommun/Sprak/English/Environment/Pellets/&amp;usg=__OoVy_y-HFUreKH4tD-mE0lI0Obs=&amp;h=472&amp;w=472&amp;sz=57&amp;hl=en&amp;start=3&amp;tbnid=imq9FZO6WJX9UM:&amp;tbnh=129&amp;tbnw=129&amp;prev=/images?q=pellets&amp;hl=en&amp;rlz=1T4GGLR_enUS263US266&amp;sa=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www.thebaitwarehouse.co.uk/images/10MM%2520COURSE%2520CARP%2520PELLET.jpg&amp;imgrefurl=http://www.thebaitwarehouse.co.uk/index.php?cPath=21&amp;usg=__79N6ibZUtFpVjxWMbwas8uSsyu8=&amp;h=640&amp;w=427&amp;sz=87&amp;hl=en&amp;start=7&amp;tbnid=uAUP91-2yu4jqM:&amp;tbnh=137&amp;tbnw=91&amp;prev=/images?q=pellets&amp;hl=en&amp;rlz=1T4GGLR_enUS263US266&amp;sa=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/imgres?imgurl=http://www.statoilhydro.com/en/NewsAndMedia/News/2008/Downloads/pellets-0002558-hires.jpg&amp;imgrefurl=http://www.statoilhydro.com/en/NewsAndMedia/News/2008/Pages/selger_pellets.aspx&amp;usg=__ZlAIWBhS-_Sc9v_stbwo0x8Or9E=&amp;h=5000&amp;w=3299&amp;sz=986&amp;hl=en&amp;start=60&amp;tbnid=xU0349cZ1gHytM:&amp;tbnh=150&amp;tbnw=99&amp;prev=/images?q=pellets&amp;start=40&amp;ndsp=20&amp;hl=en&amp;rlz=1T4GGLR_enUS263US266&amp;sa=N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hyperlink" Target="http://images.google.com/imgres?imgurl=http://img.dailymail.co.uk/i/pix/2007/04_03/litter0205_468x550.jpg&amp;imgrefurl=http://www.dailymail.co.uk/news/article-452205/Bill-Brysons-war-heartbreaking-litter-blighting-Britain.html&amp;usg=__U9axfNPv1FdNX0GNuH408Jp_Qhs=&amp;h=550&amp;w=468&amp;sz=134&amp;hl=en&amp;start=1&amp;tbnid=7S-3wK8BXwKr7M:&amp;tbnh=133&amp;tbnw=113&amp;prev=/images?q=litter&amp;hl=en&amp;rlz=1T4GGLR_enUS263US266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s.google.com/imgres?imgurl=http://www.hinkleycenter.com/photos/litter/images/litter%2520(9).jpg&amp;imgrefurl=http://www.hinkleycenter.com/photos/litter.htm&amp;usg=__avVlACexYzM0M-49C1DMVwBMgMA=&amp;h=375&amp;w=500&amp;sz=93&amp;hl=en&amp;start=7&amp;tbnid=_uC8ZcMDmLEYNM:&amp;tbnh=98&amp;tbnw=130&amp;prev=/images?q=litter&amp;hl=en&amp;rlz=1T4GGLR_enUS263US266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ages.google.com/imgres?imgurl=http://ouryarra.melbournewater.com.au/images/litter_trap.jpg&amp;imgrefurl=http://ouryarra.melbournewater.com.au/content/river_health/what_affects_river_health/what_affects_river_health.asp&amp;usg=__-BFq2p2oeIBrtaKqx9vgJCCXWwA=&amp;h=287&amp;w=290&amp;sz=24&amp;hl=en&amp;start=25&amp;tbnid=aoy3Qdjto1CncM:&amp;tbnh=114&amp;tbnw=115&amp;prev=/images?q=litter&amp;start=20&amp;ndsp=20&amp;hl=en&amp;rlz=1T4GGLR_enUS263US266&amp;sa=N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images.google.com/imgres?imgurl=http://www.portsdown.org/images/gallery/g_alpha/litter.jpg&amp;imgrefurl=http://www.portsdown.org/ref/a_tasks.htm&amp;usg=__eIxquB3wTdtoSIfP4xP_61klpNI=&amp;h=480&amp;w=640&amp;sz=61&amp;hl=en&amp;start=34&amp;tbnid=BQ19Gb3srTFpyM:&amp;tbnh=103&amp;tbnw=137&amp;prev=/images?q=litter&amp;start=20&amp;ndsp=20&amp;hl=en&amp;rlz=1T4GGLR_enUS263US266&amp;sa=N" TargetMode="External"/><Relationship Id="rId9" Type="http://schemas.openxmlformats.org/officeDocument/2006/relationships/image" Target="../media/image9.jpeg"/><Relationship Id="rId10" Type="http://schemas.openxmlformats.org/officeDocument/2006/relationships/hyperlink" Target="http://images.google.com/imgres?imgurl=http://newsimg.bbc.co.uk/media/images/42879000/jpg/_42879401_collected_litter.jpg&amp;imgrefurl=http://news.bbc.co.uk/2/hi/in_pictures/6619625.stm&amp;usg=__Jub6R6IW8uecvo-NUQbmm04uNpE=&amp;h=300&amp;w=416&amp;sz=74&amp;hl=en&amp;start=56&amp;tbnid=hHzGMOWAMqCUbM:&amp;tbnh=90&amp;tbnw=125&amp;prev=/images?q=litter&amp;start=40&amp;ndsp=20&amp;hl=en&amp;rlz=1T4GGLR_enUS263US266&amp;sa=N" TargetMode="External"/><Relationship Id="rId11" Type="http://schemas.openxmlformats.org/officeDocument/2006/relationships/image" Target="../media/image10.jpeg"/><Relationship Id="rId12" Type="http://schemas.openxmlformats.org/officeDocument/2006/relationships/hyperlink" Target="http://images.google.com/imgres?imgurl=http://www.sunshineshilohs.com/puppies/1st%2520litter/images/litter.jpg&amp;imgrefurl=http://www.sunshineshilohs.com/puppies/1st%2520litter/1st%2520litter.htm&amp;usg=__wmeh0UwYA5RbyC8G6f9JxTyEMgc=&amp;h=394&amp;w=500&amp;sz=35&amp;hl=en&amp;start=78&amp;tbnid=ClqXyHOwbU6CbM:&amp;tbnh=102&amp;tbnw=130&amp;prev=/images?q=litter&amp;start=60&amp;ndsp=20&amp;hl=en&amp;rlz=1T4GGLR_enUS263US266&amp;sa=N" TargetMode="External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81.xml"/><Relationship Id="rId2" Type="http://schemas.openxmlformats.org/officeDocument/2006/relationships/slide" Target="slide80.xml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hyperlink" Target="http://images.google.com/imgres?imgurl=http://www.john-daly.com/pics/storm1.jpg&amp;imgrefurl=http://www.john-daly.com/picsl/sc.htm&amp;usg=__loZ7oWnfxX1qbl14SEibBdkkC6c=&amp;h=600&amp;w=900&amp;sz=118&amp;hl=EN&amp;start=18&amp;tbnid=ycfG_IXhOcSyHM:&amp;tbnh=97&amp;tbnw=146&amp;prev=/images?q=storm&amp;gbv=2&amp;hl=EN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ages.google.com/imgres?imgurl=http://climatesecurity.org/blog/wp-content/uploads/2008/04/storm350x425.jpg&amp;imgrefurl=http://blog.climatesecurity.org/?p=75&amp;usg=__QEuZMa1d24sPoxOTYzk42dzw0p4=&amp;h=425&amp;w=350&amp;sz=26&amp;hl=EN&amp;start=24&amp;tbnid=K-uoX49VidqEOM:&amp;tbnh=126&amp;tbnw=104&amp;prev=/images?q=storm&amp;start=18&amp;gbv=2&amp;ndsp=18&amp;hl=EN&amp;sa=N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images.google.com/imgres?imgurl=http://img.timeinc.net/time/photoessays/2007/ice_storm/ice_storm_01.jpg&amp;imgrefurl=http://www.time.com/time/photogallery/0,29307,1693458,00.html&amp;usg=__XJ3ujFGY93ktMm9Zy7JAcrk79gw=&amp;h=404&amp;w=611&amp;sz=143&amp;hl=EN&amp;start=36&amp;tbnid=UHAZz16xLJw6kM:&amp;tbnh=90&amp;tbnw=136&amp;prev=/images?q=storm&amp;start=18&amp;gbv=2&amp;ndsp=18&amp;hl=EN&amp;sa=N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images.google.com/imgres?imgurl=http://nyc.metblogs.com/archives/images/2006/02/02.06%2520snowstorm_third%2520ave%2520umbrella.JPG&amp;imgrefurl=http://skywatch-media.com/2007/03/uk-braced-for-arctic-snowstorms.html&amp;usg=__09L53lRxXbPnOLduZQt0mQO1tHM=&amp;h=972&amp;w=1296&amp;sz=212&amp;hl=EN&amp;start=2&amp;tbnid=B7P2B6ZfT34ZlM:&amp;tbnh=113&amp;tbnw=150&amp;prev=/images?q=snowstorm&amp;gbv=2&amp;hl=EN" TargetMode="External"/><Relationship Id="rId9" Type="http://schemas.openxmlformats.org/officeDocument/2006/relationships/image" Target="../media/image15.jpeg"/><Relationship Id="rId10" Type="http://schemas.openxmlformats.org/officeDocument/2006/relationships/hyperlink" Target="http://images.google.com/imgres?imgurl=http://www.shadesofsuccess.net/arturo_d_kerr/images/2008/01/18/snowstorm0108jv.jpg&amp;imgrefurl=http://www.shadesofsuccess.net/arturo_d_kerr/2008/01/bostons-snowsto.html&amp;usg=__On_c-zb9BzFKRcG1wG_t8fR4FQY=&amp;h=480&amp;w=640&amp;sz=106&amp;hl=EN&amp;start=28&amp;tbnid=7h2iKG-EOuEYUM:&amp;tbnh=103&amp;tbnw=137&amp;prev=/images?q=snowstorm&amp;start=18&amp;gbv=2&amp;ndsp=18&amp;hl=EN&amp;sa=N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images.google.com/imgres?imgurl=http://www.thetechherald.com/media/images/200849/storm_Fabiano_1.jpg&amp;imgrefurl=http://www.thetechherald.com/article.php/200849/2534/BlackBerry-Storm-receives-celebrity-criticism&amp;usg=__7wSMiloV4lvAGZeyZzgg_4cR3Rg=&amp;h=400&amp;w=600&amp;sz=20&amp;hl=EN&amp;start=148&amp;tbnid=TyCv8qIjRY0GfM:&amp;tbnh=90&amp;tbnw=135&amp;prev=/images?q=storm&amp;start=144&amp;gbv=2&amp;ndsp=18&amp;hl=EN&amp;sa=N" TargetMode="External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hyperlink" Target="http://images.google.com/imgres?imgurl=http://mcgonnigle.files.wordpress.com/2007/02/lightning.jpg&amp;imgrefurl=http://mcgonnigle.wordpress.com/2007/02/05/of-400-lightning-strikes-a-year/&amp;usg=__u5PBmtGeRLDLgNjnbjgrLCUp8gE=&amp;h=600&amp;w=800&amp;sz=69&amp;hl=EN&amp;start=3&amp;tbnid=Z7FUmpMkVF71UM:&amp;tbnh=107&amp;tbnw=143&amp;prev=/images?q=lightning&amp;gbv=2&amp;hl=EN&amp;sa=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images.google.com/imgres?imgurl=http://static.howstuffworks.com/gif/lightning-gallery-18.jpg&amp;imgrefurl=http://science.howstuffworks.com/lightning9.htm&amp;usg=__-aE_1sFZTG5iBDUMOoQmlwYAmuY=&amp;h=320&amp;w=400&amp;sz=14&amp;hl=EN&amp;start=2&amp;tbnid=t_NmS3Ch2Yp5kM:&amp;tbnh=99&amp;tbnw=124&amp;prev=/images?q=lightning&amp;gbv=2&amp;hl=EN&amp;sa=G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images.google.com/imgres?imgurl=http://www.lifeclever.com/wp-content/uploads/2008/01/lightning.jpg&amp;imgrefurl=http://www.lifeclever.com/the-lightning-bolt/&amp;usg=__ay4a9wcREMe4BlQDkZnHCNQ2Wls=&amp;h=314&amp;w=450&amp;sz=35&amp;hl=EN&amp;start=5&amp;tbnid=6BxWXN8nh8fnoM:&amp;tbnh=89&amp;tbnw=127&amp;prev=/images?q=lightning&amp;gbv=2&amp;hl=EN&amp;sa=G" TargetMode="External"/><Relationship Id="rId7" Type="http://schemas.openxmlformats.org/officeDocument/2006/relationships/image" Target="../media/image20.jpeg"/><Relationship Id="rId8" Type="http://schemas.openxmlformats.org/officeDocument/2006/relationships/hyperlink" Target="http://images.google.com/imgres?imgurl=http://www.ma.utexas.edu/users/kschalm/Lightning%2520&amp;%2520Tornado.jpg&amp;imgrefurl=http://tkcollier.wordpress.com/2008/03/&amp;usg=__TyPmK3KUg8H1cwnwr1gr-fNA-Eg=&amp;h=600&amp;w=800&amp;sz=25&amp;hl=EN&amp;start=8&amp;tbnid=P84Yhd2JjuJ1IM:&amp;tbnh=107&amp;tbnw=143&amp;prev=/images?q=lightning&amp;gbv=2&amp;hl=EN&amp;sa=G" TargetMode="External"/><Relationship Id="rId9" Type="http://schemas.openxmlformats.org/officeDocument/2006/relationships/image" Target="../media/image21.jpeg"/><Relationship Id="rId10" Type="http://schemas.openxmlformats.org/officeDocument/2006/relationships/hyperlink" Target="http://images.google.com/imgres?imgurl=http://akvis.com/img/examples/lightshop/lightning/rain-and-lightning.jpg&amp;imgrefurl=http://akvis.com/de/lightshop-tutorial/examples/lightning.php&amp;usg=__foPi0s_cJtf9jLVgRHXu78ZFShU=&amp;h=420&amp;w=560&amp;sz=64&amp;hl=EN&amp;start=7&amp;tbnid=71-LhOX6NvO20M:&amp;tbnh=100&amp;tbnw=133&amp;prev=/images?q=lightning&amp;gbv=2&amp;hl=EN&amp;sa=G" TargetMode="External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53.xml"/><Relationship Id="rId3" Type="http://schemas.openxmlformats.org/officeDocument/2006/relationships/slide" Target="slide90.xml"/><Relationship Id="rId4" Type="http://schemas.openxmlformats.org/officeDocument/2006/relationships/slide" Target="slide130.xml"/><Relationship Id="rId5" Type="http://schemas.openxmlformats.org/officeDocument/2006/relationships/slide" Target="slide153.xml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2404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Why should we take care of animals?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6" descr="One Dark Nigh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35200" y="2019240"/>
            <a:ext cx="4540320" cy="40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600200" y="20574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 animals live with our family. Other animals are wild.  We should be kind to all animals.  Why should we take care of animal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c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00200" y="20574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 </a:t>
                      </a:r>
                      <a:r>
                        <a:rPr b="1" i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liv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with our family. Other animals are wild.  We should be kind to all animals.  Why should we take care of animal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c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c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_____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______ from the faucet into the si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rom the faucet into the si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edroom light ____ when I flip the switch on and off and on and of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rom the faucet into the si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edroom light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lash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I flip the switch on and off and on and of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dark sky was lit up by ______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rom the faucet into the si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edroom light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lash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I flip the switch on and off and on and of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dark sky was lit up by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light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_____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ammer ____ the nail to push it into the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amm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nail to push it into the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qu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phic Organiz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ngular and Plural Pronou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amm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nail to push it into the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____ waves kept sweeping over the beac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amm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nail to push it into the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ll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ves kept sweeping over the beac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One Dark Nigh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bout a cat and her kitt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help you understand what you read, you can classify, or group, related words and phras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this story, the author uses words and phrases to describe the cat and kitt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grouping these words together, you can picture what the cat and kittens look lik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of words and phrases that describe the cat or kitt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mall, dark, stray, soft as whispers, gray as da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further classify these words by grouping them into words about the cat and words about the kitt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jamal herd a cat out side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Jamal heard a cat outside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he unlocked the dor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He unlocked the door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o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one nou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more than one nou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qu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Talk About I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two poems about people who decide to give some cats a ho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240" y="4107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ednesda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6765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time that you experienced bad or scary weather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6800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Verdana"/>
              <a:ea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3967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762120" y="2133720"/>
          <a:ext cx="7162560" cy="418788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two poems about some unloved cats who find a home. They are reassured that someone loves them. How can we show an animal that we love i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3967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762120" y="2133720"/>
          <a:ext cx="7162560" cy="418788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two poems about some </a:t>
                      </a:r>
                      <a:r>
                        <a:rPr b="1" i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unlov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cats who find a home. They are </a:t>
                      </a:r>
                      <a:r>
                        <a:rPr b="1" i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assur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that someone loves them. How can we show an animal that we love i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un-, re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nouns for One and More Than 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aking and Listening: Use Telephones and Voice Ma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286000" y="1523880"/>
          <a:ext cx="4140360" cy="4876920"/>
        </p:xfrm>
        <a:graphic>
          <a:graphicData uri="http://schemas.openxmlformats.org/drawingml/2006/table">
            <a:tbl>
              <a:tblPr/>
              <a:tblGrid>
                <a:gridCol w="4140360"/>
              </a:tblGrid>
              <a:tr h="48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 disagree—this certainly does not look like a full moo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You’re going to want to reread this great new book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e was either the first or second blue ribbon winner at the preschool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s it unfair to say this is the worst juice I have ever had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ill you replay the tape of the cook in the funny suit that made me laugh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food is great but do not reheat any more because I am full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5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om get a new bed for hour cat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Mom got a new bed for our cat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 ole one was unsaif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The old one was unsafe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concer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con – cer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have a reason to worry about something, you hav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concer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bout i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omething can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concer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you by giving you an uneasy feel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om ha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concer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bout us crossing the street at the busy intersec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o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one nou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more than one nou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I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“What is in the box?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“What is in the box?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looked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“What is in the box?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ooked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baby birds insid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“What is in the box?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ooked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baby birds insid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 aren’t they in a nest?” she ask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“What is in the box?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ooked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baby birds insid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 aren’t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a nest?”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sk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 Telephones and Voice Ma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aker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 slowly and clear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ve complete, accurate inform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poli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y on the topic.  Don’t ram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grow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grow – th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Grow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the process of something getting bigger or develop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brother had a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grow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purt of two inches last year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’d like to see mor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grow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our vegetable pla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 Telephones and Voice Ma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stener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sten careful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rite down the messag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liver the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ing Connections:  Text to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have read poems about cats who find a new home.  Tomorrow we will hear again about what happens during the stor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967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752480" y="274320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puppy with a growth spurt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riday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838080" y="2057400"/>
          <a:ext cx="7010640" cy="4187880"/>
        </p:xfrm>
        <a:graphic>
          <a:graphicData uri="http://schemas.openxmlformats.org/drawingml/2006/table">
            <a:tbl>
              <a:tblPr/>
              <a:tblGrid>
                <a:gridCol w="701064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s week we read about showing concern for animals. We can do many things to look after them. Why is it important to care for animal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 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nouns for One and More Than 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r Grap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286000" y="1523880"/>
          <a:ext cx="4140360" cy="4876920"/>
        </p:xfrm>
        <a:graphic>
          <a:graphicData uri="http://schemas.openxmlformats.org/drawingml/2006/table">
            <a:tbl>
              <a:tblPr/>
              <a:tblGrid>
                <a:gridCol w="4140360"/>
              </a:tblGrid>
              <a:tr h="48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prot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ro – tec - t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keep something from being harmed or damaged, you give it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rotec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basement gives u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rotec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from tornado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citizens get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rotec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from the poli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l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replay the preview so I can see how the actors reac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vie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I can see how the actor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has an unpaid ticket the he disagrees wi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vie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I can see how the actor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has an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npa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cket the 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disagre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i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says her job will prepay our movers when we reloca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vie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I can see how the actor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has an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npa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cket the 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disagre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i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says her job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p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ur movers when w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loc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undo this ribbon so you can retie it for 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vie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I can see how the actor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has an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npa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cket the 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disagre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i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says her job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p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ur movers when w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loc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nd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is ribbon so you can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t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t for 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quickl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onderfu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tudied words like this alrea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 you know about reading them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’ll learn about adding prefixes </a:t>
            </a:r>
            <a:r>
              <a:rPr b="1" i="1" lang="en-US" sz="3200" spc="-1" strike="noStrike">
                <a:solidFill>
                  <a:srgbClr val="ffcc66"/>
                </a:solidFill>
                <a:latin typeface="Verdana"/>
              </a:rPr>
              <a:t>un-, re-, pre-, dis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the beginning of wor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63748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133720" y="914400"/>
          <a:ext cx="4647960" cy="569916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7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ght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u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as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oll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dg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oo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ometimes see this in the sk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ometimes see this in the sky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you can hear a clap of ____ when it rains h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ometimes see this in the sky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you can hear a clap of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it rains h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lightning moves quickly across the sky it does thi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ometimes see this in the sky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you can hear a clap of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it rains h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lightning moves quickly across the sky it does this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las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omeone does when he or she bangs on a door with a fis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omeone does when he or she bangs on a door with a fist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father had a ___ laugh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omeone does when he or she bangs on a door with a fist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father had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ll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augh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much more than a light rai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omeone does when he or she bangs on a door with a fist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father had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ll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augh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much more than a light rain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prefix has a specific meaning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un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,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dis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:  n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re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:  aga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e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:  befo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 cat disappaered in the gras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The cat disappeared in the grass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y was afraid of dog.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It was afraid of the dog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o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words that take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     th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ronoun names only 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ronoun names more than 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nouns name only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lura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nouns name more than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r Grap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r graphs help readers compare inform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read the title of the grap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information at the bottom and sides of the grap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llow the bar across and see where it ends to find out the information you are looking fo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rap Up Your Week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Talk Abo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sponsibil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thunderstorm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ated Link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ind Pets New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pt Plus Videos  </a:t>
            </a:r>
            <a:br>
              <a:rPr sz="44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(password required)</a:t>
            </a:r>
            <a:br>
              <a:rPr sz="40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ff Happens with Bill Nye: Pets (20:13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 People, Real Math: Choosing a Pet (K-2) (13:59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l About Animals: Mammals (Revised) (10:05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8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lling City: Vocabul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lling City: Amazing Wo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16400" y="1599840"/>
            <a:ext cx="347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lling Cit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rest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a two-syllable word formed from the base word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the prefix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re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chunk the word into its parts—the prefix and the base wor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n cover the prefix, read the base word, and then blend the prefix and the base word to read the whole wor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does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restar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ea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33cccc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3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8720" y="2268360"/>
            <a:ext cx="677052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re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ll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p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li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ppr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pp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29200" y="1599840"/>
            <a:ext cx="365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afra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char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f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loy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ou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ma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mou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8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7"/>
              </a:rPr>
              <a:t>Spelling City: Vocabul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8"/>
              </a:rPr>
              <a:t>Spelling City: Amazing Wo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16400" y="1599840"/>
            <a:ext cx="347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3"/>
              </a:rPr>
              <a:t>Spelling City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t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t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r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t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r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gl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rea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se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gr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loa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l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he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29200" y="1599840"/>
            <a:ext cx="365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lik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tas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r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cho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wri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qu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Firefigh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ll, in order, three things that happened in that sto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ld the last thing have happened first?  Why no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equence &amp; Graphic Organiz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 readers pay attention to the order of events in a sto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there are helpful clue words, such a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ir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nex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inall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to tell the sequence.  Sometimes there aren’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can keep track of sequence by using a graphic organizer to record events as we read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helps us remember the correct order of events in a sto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0" y="1523880"/>
          <a:ext cx="4140360" cy="4876920"/>
        </p:xfrm>
        <a:graphic>
          <a:graphicData uri="http://schemas.openxmlformats.org/drawingml/2006/table">
            <a:tbl>
              <a:tblPr/>
              <a:tblGrid>
                <a:gridCol w="4140360"/>
              </a:tblGrid>
              <a:tr h="48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he wille un lock the door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She will unlock the doors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he well unpack her groceries?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She will unpack her groceries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cc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onou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word that takes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pronouns that name only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Mom helps animals.  She works for a v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 is a pronoun that names one person—Mo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pronouns that name more than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ometimes Dad and I help.  We feed the anima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is a pronoun that names more than one—Dad and 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____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__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____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__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anted to help the cat.  ___said,”Drive to Dr. Klute’s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anted to help the cat.        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id,”Drive to Dr. Klute’s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___ took the cat to the v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63748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133720" y="914400"/>
          <a:ext cx="4647960" cy="569916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7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ght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u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as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oll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dg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oo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anted to help the cat.        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id,”Drive to Dr. Klute’s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ok the cat to the v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un-, re,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lling Words with Prefix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qu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Talk About I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about how a boy and his grandfather help some stray anima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600200" y="2666880"/>
          <a:ext cx="6095880" cy="3260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concern you hav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66680" y="2209680"/>
          <a:ext cx="6858000" cy="40910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0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Jonathan.  He shows concern for a family of cats. They need protection from a storm.  What do animals need for growth and well-be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066680" y="2209680"/>
          <a:ext cx="6858000" cy="40910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0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Jonathan.  He shows </a:t>
                      </a:r>
                      <a:r>
                        <a:rPr b="1" i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concern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for a family of cats. They need </a:t>
                      </a:r>
                      <a:r>
                        <a:rPr b="1" i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from a storm.  What do animals need for </a:t>
                      </a:r>
                      <a:r>
                        <a:rPr b="1" i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rowth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and well-be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un-, re,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Frequency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nouns for One and More than 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6800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Verdana"/>
              <a:ea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 - gil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something can break or be damaged easily, it i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delicate wings of a butterfly ar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knock over th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vase, it will brea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spider web look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but it is quite stro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" action="ppaction://hlinksldjump"/>
              </a:rPr>
              <a:t>pelle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el - le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elle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re small balls of material pressed together, very often a kind of animal fe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ony poured th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elle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to the rabbit’s bow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dog likes dog food made from beef-flavore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elle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              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2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pelle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Picture 7" descr="pellets%252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10MM%2520COURSE%2520CARP%2520PELLE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91120" y="1828800"/>
            <a:ext cx="1923840" cy="2895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pellets-0002558-hire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00720" y="1600200"/>
            <a:ext cx="2363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048120" y="1219320"/>
          <a:ext cx="3352680" cy="518148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8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ertain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i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o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ou’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" action="ppaction://hlinksldjump"/>
              </a:rPr>
              <a:t>lit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lit - t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Lit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scraps or pieces of trash left ar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re wa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lit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the stands after the football ga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picked up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lit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round our school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lit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5" name="Picture 6" descr="litter0205_468x5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2520" y="1600200"/>
            <a:ext cx="1942920" cy="2286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litter%2520(9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1600200"/>
            <a:ext cx="3429000" cy="2584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litter_tra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1600200"/>
            <a:ext cx="2619360" cy="2595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litte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" y="4272120"/>
            <a:ext cx="2514600" cy="1890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_42879401_collected_litter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429000" y="4267080"/>
            <a:ext cx="2486160" cy="1791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litter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324480" y="4284720"/>
            <a:ext cx="238140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prefix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prefix and base word form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2971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wr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gr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clas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d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ppr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thi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isturb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gl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thi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pr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lat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wri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Pick out the words with these prefixes in “Kitten Rescue.”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19160" y="2327040"/>
            <a:ext cx="3733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happ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spleas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fille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review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e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ll you rewind the rerun of that show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disappear before it is time to unpac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reschool children learn to retie their lac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unsafe to preheat the oven while you are g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rains heavi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light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flash of light in the sky during a st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loud sound in the sky that comes after a flash of 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heavy rain, snow, or ha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ashes – moves quickly b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st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9" descr="storm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1600200"/>
            <a:ext cx="2762280" cy="2133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1" descr="storm350x42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1600200"/>
            <a:ext cx="2074680" cy="2514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ice_storm_0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3989520"/>
            <a:ext cx="3200400" cy="2117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7" descr="0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3886200"/>
            <a:ext cx="2438280" cy="2293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9" descr="snowstorm0108jv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809880" y="4343400"/>
            <a:ext cx="2295720" cy="1725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1" descr="storm_Fabiano_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" y="160020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light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Picture 7" descr="lightn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2971800" cy="2224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lightning-gallery-1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1600200"/>
            <a:ext cx="2628720" cy="209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lightni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3970440"/>
            <a:ext cx="3048120" cy="2135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Lightning%2520%26%2520Tornado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15000" y="3908520"/>
            <a:ext cx="2962440" cy="221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5" descr="rain-and-lightnin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505320" y="1600200"/>
            <a:ext cx="2361960" cy="1776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purple%2520lightning"/>
          <p:cNvPicPr/>
          <p:nvPr/>
        </p:nvPicPr>
        <p:blipFill>
          <a:blip r:embed="rId12"/>
          <a:stretch/>
        </p:blipFill>
        <p:spPr>
          <a:xfrm>
            <a:off x="3657600" y="4800600"/>
            <a:ext cx="1828800" cy="1289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9" descr="lightning"/>
          <p:cNvPicPr/>
          <p:nvPr/>
        </p:nvPicPr>
        <p:blipFill>
          <a:blip r:embed="rId13"/>
          <a:stretch/>
        </p:blipFill>
        <p:spPr>
          <a:xfrm>
            <a:off x="3809880" y="3505320"/>
            <a:ext cx="1600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hits with noise and for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roll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making a loud, deep sou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tr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l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nudg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giving a small pu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brood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worrying or thinking h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g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un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as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c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l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r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u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ext C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you come across words you don’t understand, there are strategies you can u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we can get the meaning from word parts.  We may understand the base word and suffix or the two shorter words in a compound wor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look in a dictionary or glossar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look for context clues in the words and sentences around the unknown wor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y we will learn more about using context clu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73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 movie was a reeru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The movie was a rerun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she will unplug the Light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She will unplug the light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ccff"/>
                </a:solidFill>
                <a:latin typeface="Verdana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o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words that take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     th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ronoun names only 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ronoun names more than 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nouns name only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lura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nouns name more than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phic Organiz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Talk About I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hear about a doctor who helps anima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6765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n animal you have helped or seen during a storm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8880" y="63936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Why should we take care of animals?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80" y="320760"/>
            <a:ext cx="8637840" cy="14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ednesda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066680" y="2057400"/>
          <a:ext cx="7162920" cy="418788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more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out animal doctors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y attend school for a long time. They study veterinary medicine. What would you like to stud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assify/Categori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nouns for One and More Than 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6800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Verdana"/>
              <a:ea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pollu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ol - lute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someone damages the air, soil, or water by making it dirty with harmful substances, we say they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ollu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Oil spills from ships can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ollu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wa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moke from the factory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ollu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air around u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ollu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0" name="Picture 7" descr="Water-pollution"/>
          <p:cNvPicPr/>
          <p:nvPr/>
        </p:nvPicPr>
        <p:blipFill>
          <a:blip r:embed="rId1"/>
          <a:stretch/>
        </p:blipFill>
        <p:spPr>
          <a:xfrm>
            <a:off x="6616800" y="1600200"/>
            <a:ext cx="2031840" cy="3048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coalplant"/>
          <p:cNvPicPr/>
          <p:nvPr/>
        </p:nvPicPr>
        <p:blipFill>
          <a:blip r:embed="rId2"/>
          <a:stretch/>
        </p:blipFill>
        <p:spPr>
          <a:xfrm>
            <a:off x="457200" y="1600200"/>
            <a:ext cx="2098800" cy="2819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Lawyermarketingpollution"/>
          <p:cNvPicPr/>
          <p:nvPr/>
        </p:nvPicPr>
        <p:blipFill>
          <a:blip r:embed="rId3"/>
          <a:stretch/>
        </p:blipFill>
        <p:spPr>
          <a:xfrm>
            <a:off x="2743200" y="1600200"/>
            <a:ext cx="3657600" cy="2409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3" descr="pollute"/>
          <p:cNvPicPr/>
          <p:nvPr/>
        </p:nvPicPr>
        <p:blipFill>
          <a:blip r:embed="rId4"/>
          <a:stretch/>
        </p:blipFill>
        <p:spPr>
          <a:xfrm>
            <a:off x="457200" y="4524480"/>
            <a:ext cx="2209680" cy="1619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5" descr="creek%2520grate"/>
          <p:cNvPicPr/>
          <p:nvPr/>
        </p:nvPicPr>
        <p:blipFill>
          <a:blip r:embed="rId5"/>
          <a:stretch/>
        </p:blipFill>
        <p:spPr>
          <a:xfrm>
            <a:off x="2971800" y="4114800"/>
            <a:ext cx="1557360" cy="20001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7" descr="wsci_01_img0096"/>
          <p:cNvPicPr/>
          <p:nvPr/>
        </p:nvPicPr>
        <p:blipFill>
          <a:blip r:embed="rId6"/>
          <a:stretch/>
        </p:blipFill>
        <p:spPr>
          <a:xfrm>
            <a:off x="4800600" y="4191120"/>
            <a:ext cx="1562040" cy="1952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9" descr="deadfish"/>
          <p:cNvPicPr/>
          <p:nvPr/>
        </p:nvPicPr>
        <p:blipFill>
          <a:blip r:embed="rId7"/>
          <a:stretch/>
        </p:blipFill>
        <p:spPr>
          <a:xfrm>
            <a:off x="6781680" y="4745160"/>
            <a:ext cx="19242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rele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re - lease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relea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omething, you set it free or let it g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the young raccoon’s foot is healed, the vet will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relea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t into the wil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will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relea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baby birds as soon as they can f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ffixes are word parts that are at the end of some words.  Look at these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er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ac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ese words because you know how to read words with suffix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cover the suffix, read the base word, and then blend the base word and the suffix to read the whole wo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suffixes have a specific mean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ly     in a ____ w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ful    full of _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er, -or      a person who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10:20:33Z</dcterms:modified>
  <cp:revision>30</cp:revision>
  <dc:subject/>
  <dc:title>Slide 1</dc:title>
</cp:coreProperties>
</file>